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gif" ContentType="image/gif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199C-84B2-491C-BFC4-497FB202B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B4BB-FE3C-48E7-AA48-EE813CB0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BAA0F5-A073-49BC-8371-7A381343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87DE0E-9A7A-432A-8EA4-C75CFACD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9E844-EAA5-4007-A6F4-9E7300ED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A0F78-8A12-458B-8920-28D65259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E4D3B-9EAD-4903-A499-F6C30551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33A16-67EA-4CB2-9EF6-B0AD0E76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46FA5-934F-4A0F-85FB-8FAEC4A5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72243-75BB-4FE5-9249-455E29A13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673A2-5E5F-48D7-BF8A-FABF20ED2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577D4-2A98-4366-B421-C7B41E847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6798-002E-47AE-9CA5-E2E324CF4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5EF39-4E31-410E-B716-9F109FD3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79B807-8C7C-4AB5-8BEF-C425E30B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AF532-B2EC-425E-9DB9-F5C7D6B1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7AB852-963C-4266-8864-52F879E2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2F63C-A84C-4774-B627-1CCE9FF0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2CEBF-1963-4274-B324-C9E31D25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324E36-5644-45D4-9062-C003D6ED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1A2D1-A7A9-406C-A9E9-53015A3A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5858E0-9648-4526-95F0-37A4DBA2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EB826-42FE-471A-BBA6-7EF292105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A895-6D13-4627-8E17-397045D22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FA40D6-00AE-43FA-ABF3-F8088BACA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D75930-8CE8-4BE7-B1D7-6F3D36C12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8B5211-85DE-41DC-B14D-5583FEB0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EC19C5-8A92-4EA9-B595-5FE5051C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90C29E5-5A5B-458E-8438-8A979E0B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39B9CC-DCA9-44A4-9313-282DDE15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EC4F8B-12DE-4D5F-9BA8-BE467B7F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6D299F1-8000-45C8-A142-33A6AEEF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D877D5-851E-44CA-8619-5C3DFC46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6B1FA8-12C3-40CC-9E94-32CA6291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A0F8-49A6-44A3-A8A3-AA0AFAA75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C39B7B-2917-436B-889C-36B15ADF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E72A59-4E46-4C7B-B375-F37AA016D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96599FD-3AE8-4249-9E42-5ECD21C3E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8BC3-8AEB-4A13-93C3-E3492599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C2E4-A95F-40CA-A95A-F1DCFBDC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6666-4E7D-4808-8FBC-6AC4FB56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C9AA-FCB9-4D24-BDEE-9A45BDFA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4661-D8FF-458B-B9F2-45FC662C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592F-FBE9-4A02-A251-9C92331E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294B-43BC-4A3E-A1E1-14CA72D7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5C9B-1118-4F85-BDF5-ADBD2E03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1873-3ED0-42C9-9E05-C4919231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7304-5CE0-471B-A6AB-49CD8779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4185-0180-44F3-A1E1-4CF82EAD6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3AE5-3126-4D25-AE58-E4FF8875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A0AFF8-25CB-4D29-9C9D-0220DAC14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B47C46-6666-48C7-8A47-06626A8F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D4E95F-FA73-45F2-9BB0-135DB260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0C21EA-3BCA-4B2E-A1B1-3C6EA626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157F2E-797F-4FAF-A3BF-C26BA2C1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4B35-E394-490C-97BB-A592F4BD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79F59F-E716-46BF-9EF0-2D3C3B62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CD61B4-0DD6-4330-82D8-175553D1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BB59CB-B49F-40EE-8287-F312E0DA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353551-74B0-404D-AE96-CA176F94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AEED35-319D-4EFA-AEFE-FE0EDD4C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47E0D3-93A4-46F5-B1CC-1FC613703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5A1BE7-A66A-4343-A8FE-1032F80B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27A89-4E8E-49E5-9989-C77AD1E74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E3B59-EAB7-47F3-8CE8-CBDCC71F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83E4B-6FCD-4A20-B2A5-789B748A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519C-4E83-4B53-9D34-1F30EBB0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127B9-DA71-4CC1-B166-B2EDA771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1421F-D6D9-47ED-9D82-1E07B3A7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6FB1B-E707-42AF-872C-B9FD966F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E0BB9-2242-4E5B-8EF6-2E8977A7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48AEE-7225-443F-A8C7-54341C10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F5A92-1BE6-405B-ADA4-B200A2AF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EA371-6C05-4845-8B16-A28F85E9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F9E93-0B67-4D08-9B44-4260E22BF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579BA-9F20-4C85-86F2-905E75CE3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28277-6603-43C6-AF80-E4BD92F51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C311-464E-47C8-AFED-9770858A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FC2F2-87E0-40DA-AA7B-9941928C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72D50-8FA9-4CA2-880D-117E5906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7BDBA-941C-4374-B723-22CB49A0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E73EF-6683-45DB-9771-27D079B7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586B7-BC61-4804-8937-7BBB1FC0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915C3-3861-4459-AEAF-C5587AFC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A368B-17C8-4A72-9EA9-C174EA9F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DCCD6-5B59-4434-B914-CF7BD06E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EA48E-9A9A-4A91-A7AE-28D4A450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DFA9C-1687-4131-B764-650C67481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09FB-9BF8-4CC4-A53E-CE6DBC0A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63008-FA7A-4FF3-9570-4D80CC633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03ECF-71EF-4B4A-9BB4-C00AEB93D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4AF77-C5BF-4FE8-8BA8-BF11D27E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A440B-3CD5-48F1-A1B0-D2587667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C3F05-2191-4DFD-BF4B-CF84D960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23184-8CE3-4D8D-8ECE-17982EFB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A04A4-35B5-45D2-BEBC-DEF8FF2A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9BCEA-1030-4DB5-BC87-220C6C7D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48A14-97A3-4A0C-9174-084F267C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0ACA5-632E-4F56-A1E0-1E0F07D5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AA89-AE9E-44DD-9D39-BD9F9EBB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F5940-8B16-4FED-86BE-1AFA48B8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F706B-DF2A-406C-98A1-7C979F0A5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1E363-969F-48E5-8B3A-02B4759ED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BC20C-78D9-481B-816F-F576BE5A0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6BF8E-1158-43FE-AB9F-393772FB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A14AE-C806-4BB8-898C-4E6344F4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3CAE9-DE54-4091-88C3-B90F9DD1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806AA-CAB3-4FC5-B4DB-3A301E2B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C7EB8-55E5-4013-BACF-765EC2B0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2245C-05E7-4993-A1F5-A114AE47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A8E1-E636-41C8-BB67-490A32F8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F4304-ACE4-4CBD-8B6C-1D7E37E9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92E8F-ED5E-49B8-8D64-D5356DD9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D5F79-8763-4114-BCF3-38B7BACC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9451A-E106-443B-BE7F-C426D9DA2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95353-6A3A-4A20-B06E-17E58641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A6B8D-B055-40B1-8C38-DCF5AA614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7436E-CA20-47C0-9283-BC84A7D0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2F49F-808F-4C19-BEC7-BA45D7FE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D3A5F-D629-4680-A02C-2E95388B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08C0F-7908-45C1-B0D2-AD50CA94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16B2-5009-40C8-BA3B-62CC07D1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BBCEC-B17F-46F1-A767-2C482B3E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E6E08-A31D-46ED-9B73-64BF7A69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BD903-DB6A-436E-9DD4-F89546C3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4A305-2686-4BF3-837A-90BCD57C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BE976-7849-4F80-8F28-9FB2C60D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B5611-8CFE-4454-89D0-0412CB84B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CC552-B8AB-403B-B9B9-99F995696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FFF1A-A7A8-48A0-9BC4-4BD24A818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46D2F2-B29C-4AE9-87AA-1D3604DF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6FCEF-5943-42DB-BF7A-58538E8B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2FA9-7BCD-4031-8DF7-5FFE994B21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74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75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76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7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8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9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0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1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2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3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4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5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6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87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88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9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0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1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2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3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4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5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6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7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8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9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0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1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2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3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4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5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06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07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8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9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0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1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2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3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4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5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6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7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8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9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0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1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2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3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24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25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6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7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8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9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0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1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32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33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4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5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6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F50F-5AB1-4A3D-99BC-8B2ED62C2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9F59-2AB2-434A-8B0B-0B23F3E402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55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8089c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f0f9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1717a2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1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92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1717a2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D054-6965-4C4D-9C2B-C1901AFF60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16D6-91E6-44DB-9B10-F495DCE5D4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1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42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5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77c8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3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94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95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96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08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26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27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44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45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252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53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54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55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56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E42F-A4A6-4515-94AE-2221D53A7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606C-5EF8-47C5-A770-F3FE34ECC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1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DDF4-3A24-42FF-8D00-DC804ADF4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381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382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84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5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6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87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388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0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1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3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0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DFB6-FAB9-489E-BE3B-8D750DBDF2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36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7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8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9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0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1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3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4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5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8089c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6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7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8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0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1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f0f9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7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1717a2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8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9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0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1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2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3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4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5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6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7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8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9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0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1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7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73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1717a2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593D-A88C-40DE-86A3-CAE031FB11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17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18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9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0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2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3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4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6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7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8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9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0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31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948D-49D6-475B-9648-DBF209FF57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1599840" y="3277800"/>
            <a:ext cx="22860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2" name="Picture 5" descr="tidalenergy_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3" name="Text Box 8"/>
          <p:cNvSpPr/>
          <p:nvPr/>
        </p:nvSpPr>
        <p:spPr>
          <a:xfrm>
            <a:off x="0" y="152280"/>
            <a:ext cx="563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457200" y="22860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idal Energ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Text Box 10"/>
          <p:cNvSpPr/>
          <p:nvPr/>
        </p:nvSpPr>
        <p:spPr>
          <a:xfrm>
            <a:off x="685800" y="617220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reated By Troy and Valeri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ow Tidal Energy Work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505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l Energy produces electricity by having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large underwater turbin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n areas with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high tidal movem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se underwater turbine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ollect kinetic mo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ides in order to produce electricit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8" name="Picture 5" descr="La-Rance2"/>
          <p:cNvPicPr/>
          <p:nvPr/>
        </p:nvPicPr>
        <p:blipFill>
          <a:blip r:embed="rId1"/>
          <a:stretch/>
        </p:blipFill>
        <p:spPr>
          <a:xfrm>
            <a:off x="4572000" y="1752480"/>
            <a:ext cx="4572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derwater Turbi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419360" y="1980720"/>
            <a:ext cx="4724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water turbines that are put on the ocean floor a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enerated by the tides which causes the spin blades to prop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turbin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duce electricity which are carried through cab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the ocean sh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1" name="Picture 5" descr="underwater-ocean-turbine_69"/>
          <p:cNvPicPr/>
          <p:nvPr/>
        </p:nvPicPr>
        <p:blipFill>
          <a:blip r:embed="rId3"/>
          <a:stretch/>
        </p:blipFill>
        <p:spPr>
          <a:xfrm>
            <a:off x="0" y="1828800"/>
            <a:ext cx="4343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dvantages of Tidal Energy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952880" y="1980720"/>
            <a:ext cx="373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a very reliable use of energy becaus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ides are very consist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ther ha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o impact on the cre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idal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dal Energy i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ery afford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dal Energy is a ver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ean source of Energy, creating no pol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http://www.youtube.com/watch?v=4Iq-h4ShZ8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4" name="Picture 5" descr="2"/>
          <p:cNvPicPr/>
          <p:nvPr/>
        </p:nvPicPr>
        <p:blipFill>
          <a:blip r:embed="rId1"/>
          <a:stretch/>
        </p:blipFill>
        <p:spPr>
          <a:xfrm>
            <a:off x="0" y="1676520"/>
            <a:ext cx="4876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sadvantages of Tidal Energ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657240" y="1295280"/>
            <a:ext cx="5181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dal Energy is still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ew source of energ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which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istak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n still be made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y cause loss of fu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s aren’t to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fficient in converting the tidal energy into electricit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water turbines ca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nly be used in large bodies of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lt wate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kes turbines corrosive whic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uses a lot of maintenance. Underwater maintenanc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s very expensi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7" name="Picture 5" descr="deltastream-turbine"/>
          <p:cNvPicPr/>
          <p:nvPr/>
        </p:nvPicPr>
        <p:blipFill>
          <a:blip r:embed="rId1"/>
          <a:stretch/>
        </p:blipFill>
        <p:spPr>
          <a:xfrm>
            <a:off x="0" y="1447920"/>
            <a:ext cx="3746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causes Tides???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114800" y="1905120"/>
            <a:ext cx="5029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es a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ri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falling sea level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at occur across the glob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dies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water are attract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o each othe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because of gravitational pull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Newton’s Law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un, mo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eart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ffect th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tid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ausing them to mov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0" name="Picture 5" descr="Dia1"/>
          <p:cNvPicPr/>
          <p:nvPr/>
        </p:nvPicPr>
        <p:blipFill>
          <a:blip r:embed="rId2"/>
          <a:stretch/>
        </p:blipFill>
        <p:spPr>
          <a:xfrm>
            <a:off x="0" y="1981080"/>
            <a:ext cx="4191120" cy="3200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Why is the Bay of Fundy Uniqu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800240" y="137160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unique because there is some of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ighest tid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orld located t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 Tides can be reach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eight of 11 fe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ces where tidal turbine/barrages are used: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ance Riv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ra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trangford Loug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orthern Irel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nd i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Kislaya Gub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uss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3" name="Picture 5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3962520" cy="4496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90" dur="2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1:34:23Z</dcterms:created>
  <dc:creator>SASD</dc:creator>
  <dc:description/>
  <dc:language>en-US</dc:language>
  <cp:lastModifiedBy>PA Department of Education Classrooms for the Future</cp:lastModifiedBy>
  <dcterms:modified xsi:type="dcterms:W3CDTF">2011-04-14T12:04:30Z</dcterms:modified>
  <cp:revision>7</cp:revision>
  <dc:subject/>
  <dc:title>Slide 1</dc:title>
</cp:coreProperties>
</file>